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5BB-0FE1-4C14-BEC8-7427C71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F39-C43E-41B7-B942-8022280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0D9-7527-4038-9DA4-44FA5E31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FAB-2423-4814-9A26-DED4037D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F4D-BD86-403C-A9D1-71B1F463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932-7F07-4FB3-B284-51BA8AE6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7DF-6EEE-4AB9-A80B-35CC83C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07E1-6FC0-4750-A3B5-C4B4B638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20E1-2CBB-4039-A0FB-16EBCDA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6187-FF05-444D-8904-12BBFA68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39DA-95F6-4B89-9552-1128E70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778-0335-4EB0-9D42-B7387AD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5B6-F641-4BA1-81D3-23829526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F9F3-C6AC-4B10-B236-B5FC0BC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596-092D-48A2-8702-AEBA826A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B67-D7A9-40D5-A170-EE2FF29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0731-598E-4498-AB2D-277AAC74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93C0-F742-41B5-87FD-3D53666D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8B43-4A0F-4DED-8FF1-953D1C9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3FD8-4435-4D56-BC72-99FCF79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5464-1EEB-409D-9318-79B57CE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2F33-6ABF-49EB-88DF-B096B1B5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E2F-A606-42D5-8C6B-9C4DE5B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D558-2543-4679-B684-F383DA1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3D03-C8DE-470B-9F02-8FFD173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E188-07F9-47CC-AEE5-5BA147E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6E7C-1D28-4461-9A29-45AC811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E99C-7B78-447F-BAAC-A60D001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B834-9058-4945-8339-F879C60C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AAEB-AA50-4769-B3B9-35CCA87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9E80-21FD-4974-8843-D051A60F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97AB-DD7B-469D-8A38-6348E42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1860-C83C-4203-B771-0D0E468F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8B4-689F-4D2D-A0E1-3DF644A5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643F-6D65-44F2-B7EA-693ADFF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9FA4-C885-4A5C-A575-25FC7E5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71B5-850C-435D-BAF2-13A1B0B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B6B0-515F-449C-8E7A-A43E499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56CD-18BB-48ED-A21E-54B491A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2338-7969-43B3-872E-6ECC7A3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8D42-4523-48B0-8865-FAF329B6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BD48-C1F7-4513-9E32-47EFF5CF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05F6-9284-4DB2-9D6C-C862AF73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14A-645A-4231-9C52-B85C759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568-A542-4935-A22D-C932463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EC9-3731-4123-8FF2-A51B702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F2A-4B45-4112-BC03-BF259F1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720-BA69-4DD3-AD48-E122516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DA9-AEE3-48B5-A62A-D8A91D40A3DF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FCE-139E-4B6D-9031-FACE45937692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435-943A-46A6-8E99-D36F18567BF3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AAF-CA09-462A-AAF3-7B518AA04FAE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4617b"/>
                </a:solidFill>
                <a:latin typeface="Calibri"/>
              </a:rPr>
              <a:t>Develop a workplace  learning </a:t>
            </a: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environ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Lesson 1 –  18 July 201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Placeholder 6" descr="arch_gilliandunlop,0.jpg"/>
          <p:cNvPicPr/>
          <p:nvPr/>
        </p:nvPicPr>
        <p:blipFill>
          <a:blip r:embed="rId1"/>
          <a:srcRect l="0" t="7359" r="0" b="735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TO BE EVALUA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ogram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ese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traine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observ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Common Files\Microsoft Shared\Clipart\cagcat50\bd06784_.wmf"/>
          <p:cNvPicPr/>
          <p:nvPr/>
        </p:nvPicPr>
        <p:blipFill>
          <a:blip r:embed="rId1"/>
          <a:stretch/>
        </p:blipFill>
        <p:spPr>
          <a:xfrm>
            <a:off x="4572000" y="2590920"/>
            <a:ext cx="3200400" cy="29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EVALUATED </a:t>
            </a:r>
            <a:r>
              <a:rPr b="1" lang="en-AU" sz="24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continu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-the-Job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ac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cillar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Program Files\Common Files\Microsoft Shared\Clipart\cagcat50\bd06790_.wmf"/>
          <p:cNvPicPr/>
          <p:nvPr/>
        </p:nvPicPr>
        <p:blipFill>
          <a:blip r:embed="rId1"/>
          <a:stretch/>
        </p:blipFill>
        <p:spPr>
          <a:xfrm>
            <a:off x="4572000" y="2819520"/>
            <a:ext cx="3040200" cy="25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 group activ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micro training se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one of the following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muneration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ruitment &amp; Sele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lling a produ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e a 5 minut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ic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ning session based on the above top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some of the principles and techniques outlined in the theoretical component of today’s les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303200" y="380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ahoma"/>
              </a:rPr>
              <a:t>Training and Develop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02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2600" y="2214360"/>
            <a:ext cx="7805880" cy="45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mployee training has become increasingly important as jobs have become more sophisticated &amp; influenced by 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ing is a learning experience that seeks a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relatively permanent change in an individu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that will improve their ability to perfor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rganisations get outputs because people perform tasks to a desired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fore employees can perform their tasks properly, they must master the special technology used by the organis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raining is the acquisition of the technology which permits employees to perform to a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Constantia"/>
              </a:rPr>
              <a:t>1/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lated to the present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hasises personal growth &amp; impr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osely related to development) Broader implications &amp; applications - does not concentrate upon learning or acquisition of particular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720" y="22860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organisation’s training needs should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following 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are the org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tion’s goal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tasks must be completed to achieve these go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behaviours are necessary for each job employee to carry out their jo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deficiencies, if any, do employees have in skills, knowledge or attitudes requires to perform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necessary behavi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effective training programme should b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ith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is enhanced when the learner is motiv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quires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forcement increases the likelih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 is rep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act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 increases learners perform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begins rapidly then plate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arning must be transferable to the j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ormal training methods can be classified a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apprentices, rotation, instruction 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ff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lecture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ferences, film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imulations et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raining EVALUATION method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s of participants or mana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est-retest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-post performance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ncremental-control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3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4617b"/>
                </a:solidFill>
                <a:latin typeface="Calibri"/>
              </a:rPr>
              <a:t>TRAINING METHODOLO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Modified 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ole-pla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uzz Grou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ogramme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4572000" y="2895480"/>
            <a:ext cx="3746520" cy="212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LEVELS OF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havi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WINDOWS\Application Data\Microsoft\Media Catalog\Downloaded Clips\cl4f\j0198609.wmf"/>
          <p:cNvPicPr/>
          <p:nvPr/>
        </p:nvPicPr>
        <p:blipFill>
          <a:blip r:embed="rId1"/>
          <a:stretch/>
        </p:blipFill>
        <p:spPr>
          <a:xfrm>
            <a:off x="3886200" y="2286000"/>
            <a:ext cx="4114800" cy="36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1:03:26Z</dcterms:created>
  <dc:creator>John McDonald</dc:creator>
  <dc:description/>
  <dc:language>en-US</dc:language>
  <cp:lastModifiedBy>User</cp:lastModifiedBy>
  <dcterms:modified xsi:type="dcterms:W3CDTF">2011-07-17T06:29:08Z</dcterms:modified>
  <cp:revision>8</cp:revision>
  <dc:subject/>
  <dc:title>Training &amp; Development</dc:title>
</cp:coreProperties>
</file>